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DB8-63D6-4FE6-9A15-8CB2E969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974-A7B5-46D8-805A-EFCD6EF4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AD3-154C-4631-BEE2-D7BB0A48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26C-9322-4695-92BD-D4CFA206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8D11-B54E-4317-8D1C-3B76569D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6A52-1003-4555-A0B3-49B75FE2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D367-1DC2-4421-8D1F-A5155544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357A-5B3C-4236-A2A8-F5149750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C97B-C402-4CED-9EA7-1B9DC956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1D73-FEE5-44A9-84B6-29249747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4E86-6821-44B5-B88C-58BA6534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30D-1E49-4334-A494-B35E7FC4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3491-867F-4D02-8018-195F884E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2ADF-36B8-4CF2-BB03-211EAF5E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6C14-7307-4504-B28C-DAA6AF26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BDE1-E645-4758-8765-CDBCC3AE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5183-3023-4ED7-963A-1F93DA18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884-F3EC-4E82-B795-D081CA23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368-8D32-4FD5-AC31-F2232807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86C-8685-498B-8D04-72A8EB2A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43C-95C2-486A-83EF-568AAF3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8E1-3198-4CB4-84E3-E6C141F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64D-5CB2-42D3-8AC0-381BD288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880-5981-47F5-9776-60702554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D2E4-1EA8-4DB7-B672-682B88407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00A2-2C26-4766-A04B-210FB3CAB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apan wanted to expand partly because other countries had natural resources that Japan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Japan bombed Pearl Harbor, US got involved with Japan in th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lied (USA, Britain, France, Rus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xis (Japan, Germany, Ita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jor Battles - Pearl Harbor, Battle of Midway, Stalingrad, Battle of Britain, Dunkirk, 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rgest single-day amphibious invasion of all time, with 160,000[4] troops landing on June 6, 19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-Day significance - USA got Germans out of France, and started to push the Germans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hat stopped war in Asia - Bombing of Hiroshima and Nagas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II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ppeasement - A political policy of conceding to aggression by a warlik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litz - an overwhelming all-ou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naggression pact - international treaty between two or more states agreeing to avoid war or armed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sland hopping - the means of crossing an ocean by a series of shorter journeys between islands, as opposed to a single journey directly across the ocean to the destination (in WWII taking out smaller enemy ba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12:05:43Z</dcterms:created>
  <dc:creator>Yarmouth Schools</dc:creator>
  <dc:description/>
  <dc:language>en-US</dc:language>
  <cp:lastModifiedBy>YHS Teacher</cp:lastModifiedBy>
  <dcterms:modified xsi:type="dcterms:W3CDTF">2009-06-15T16:24:05Z</dcterms:modified>
  <cp:revision>3</cp:revision>
  <dc:subject/>
  <dc:title>World War II</dc:title>
</cp:coreProperties>
</file>